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B462-52B3-4EEC-93F2-11206D41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B528-041B-48F9-9A38-D3797C31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AFF9-DF46-4FDE-A0C2-90F886EC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75C8-EF6F-41AA-8A3D-B04B8BB0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EE8E3-851A-415D-9779-9D7E258C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815FD-2DA8-4F23-BB15-6F055CCE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C782B-6839-4F7E-A0EF-4842AB6A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FECC4-60E0-4F41-AA36-95203EB4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FC135-A0A6-4674-8904-B84B0AEA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98EA6-AC7F-4064-9243-B928E8BB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55AD3-C74D-4927-B3AF-43B83F77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64B3-C4E6-4A27-8D0E-0E7CCD69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1B1E6-2943-4BD8-A399-54861096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0F077-F357-4CB3-A35B-D360F565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D7773-3BE2-481F-8967-DBFC83D6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96ACA-978C-492C-9F44-0721DF9E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3A6A1-A4D0-4917-9A0C-A8AB83E8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5AB1-BC07-472D-BE36-B2FE6B25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8270-25B6-41BB-A5EF-7330A1B8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5AE1-A01F-41E2-9781-18C428A9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757F-6708-45DA-A5A0-9BE7FD2F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7B36-F2BB-4A26-B362-BB2FF7CD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E95E-48B7-47B7-BF0B-22FB23D5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784E-7C32-4F07-B25B-1689B021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0B7F-54C4-4BD4-A362-636ECBD5DA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4325-5A08-4B3C-B091-66A4883CA9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Secondary-IPP-form.doc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e3e3ff"/>
                </a:solidFill>
                <a:latin typeface="Arial"/>
              </a:rPr>
              <a:t>What Do Teachers Do?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57200" y="260280"/>
            <a:ext cx="8229600" cy="6597720"/>
            <a:chOff x="457200" y="260280"/>
            <a:chExt cx="8229600" cy="65977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457200" y="260280"/>
              <a:ext cx="8229600" cy="65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 txBox="1"/>
            <p:nvPr/>
          </p:nvSpPr>
          <p:spPr>
            <a:xfrm>
              <a:off x="457200" y="260280"/>
              <a:ext cx="8229600" cy="6597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Gagne’s Events of Instru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90000"/>
              </a:lnSpc>
              <a:spcBef>
                <a:spcPts val="876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Gain attention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93120" indent="-393120">
              <a:lnSpc>
                <a:spcPct val="90000"/>
              </a:lnSpc>
              <a:spcBef>
                <a:spcPts val="876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Inform learners of objective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93120" indent="-393120">
              <a:lnSpc>
                <a:spcPct val="90000"/>
              </a:lnSpc>
              <a:spcBef>
                <a:spcPts val="876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timulate recall of prior learning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93120" indent="-393120">
              <a:lnSpc>
                <a:spcPct val="90000"/>
              </a:lnSpc>
              <a:spcBef>
                <a:spcPts val="876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resent the conten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93120" indent="-393120">
              <a:lnSpc>
                <a:spcPct val="90000"/>
              </a:lnSpc>
              <a:spcBef>
                <a:spcPts val="876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rovide "learning guidance“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93120" indent="-393120">
              <a:lnSpc>
                <a:spcPct val="90000"/>
              </a:lnSpc>
              <a:spcBef>
                <a:spcPts val="876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Elicit performance (practice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93120" indent="-393120">
              <a:lnSpc>
                <a:spcPct val="90000"/>
              </a:lnSpc>
              <a:spcBef>
                <a:spcPts val="876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rovide feedback (reinforcement and assessment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93120" indent="-393120">
              <a:lnSpc>
                <a:spcPct val="90000"/>
              </a:lnSpc>
              <a:spcBef>
                <a:spcPts val="876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ssess performance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7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7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e3e3ff"/>
                </a:solidFill>
                <a:latin typeface="Arial"/>
              </a:rPr>
              <a:t>AFTER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1.  Reflection regarding Stud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Reflection regarding the Teac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Reflection regarding Teacher’s deci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Integrating results of lesson and reflection into future pla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30200" y="0"/>
            <a:ext cx="8713800" cy="6742080"/>
            <a:chOff x="430200" y="0"/>
            <a:chExt cx="8713800" cy="674208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430200" y="0"/>
              <a:ext cx="8713800" cy="674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 txBox="1"/>
            <p:nvPr/>
          </p:nvSpPr>
          <p:spPr>
            <a:xfrm>
              <a:off x="430200" y="0"/>
              <a:ext cx="8713800" cy="6742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-11543" t="-995" r="-11543" b="-995"/>
          <a:stretch/>
        </p:blipFill>
        <p:spPr>
          <a:xfrm>
            <a:off x="395280" y="620640"/>
            <a:ext cx="82090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Internship Placement Profile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5733720"/>
            <a:ext cx="82296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What Do Teachers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How can we help our students lear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How should this learning be organiz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ffffff"/>
                </a:solidFill>
                <a:latin typeface="Arial"/>
              </a:rPr>
              <a:t>How do people learn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What Do Teachers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reate a safe, nurturing environment for stud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reate an environment that maximizes the probability that students will lear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200" spc="-1" strike="noStrike">
                <a:solidFill>
                  <a:srgbClr val="ffffff"/>
                </a:solidFill>
                <a:latin typeface="Arial"/>
              </a:rPr>
              <a:t>Make Decision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0" spc="-1" strike="noStrike">
                <a:solidFill>
                  <a:srgbClr val="e3e3ff"/>
                </a:solidFill>
                <a:latin typeface="Arial"/>
              </a:rPr>
              <a:t>Make Decisions</a:t>
            </a:r>
            <a:endParaRPr b="0" lang="en-US" sz="8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Arial"/>
              </a:rPr>
              <a:t>During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0" spc="-1" strike="noStrike">
                <a:solidFill>
                  <a:srgbClr val="e3e3ff"/>
                </a:solidFill>
                <a:latin typeface="Arial"/>
              </a:rPr>
              <a:t>BEFORE</a:t>
            </a:r>
            <a:endParaRPr b="0" lang="en-US" sz="8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Arial"/>
              </a:rPr>
              <a:t>Curriculum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Arial"/>
              </a:rPr>
              <a:t>Unit Pla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Arial"/>
              </a:rPr>
              <a:t>Lesson Pla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e3e3ff"/>
                </a:solidFill>
                <a:latin typeface="Arial"/>
              </a:rPr>
              <a:t>UNITS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A plan to teach a series of related lessons on a particular theme (Lang, Evans, 2006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LES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 road map created by the teacher to guide the teaching/learning activities during a specific period of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e3e3ff"/>
                </a:solidFill>
                <a:latin typeface="Arial"/>
              </a:rPr>
              <a:t>DURING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Instructional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Trans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Physical Arrang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Lesson Pac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olic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Focu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Ques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Re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Prai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Incorpor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Refocu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7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77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77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77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7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21:02:13Z</dcterms:created>
  <dc:creator>Reviewer</dc:creator>
  <dc:description/>
  <dc:language>en-US</dc:language>
  <cp:lastModifiedBy>Reviewer</cp:lastModifiedBy>
  <dcterms:modified xsi:type="dcterms:W3CDTF">2009-10-25T22:00:19Z</dcterms:modified>
  <cp:revision>8</cp:revision>
  <dc:subject/>
  <dc:title>What Do Teachers Do?</dc:title>
</cp:coreProperties>
</file>